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901-9FE0-4BB9-BD3D-E14BC7F6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E61-87AE-49F6-BF15-03FE4C4C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257-E1D4-4B34-9000-A8DF699D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EF7-0731-47E5-83D6-6896ED62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ADC0-815D-4796-A9FE-C5606383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A63-10C6-4598-9659-E5B61A18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434-7031-4FAE-92D5-7CF4701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588-EE70-4F2F-BB3A-BE32F858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A122-9910-4D56-ACA3-B9AEC3D9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A2FF-69D5-4326-8FE9-95084642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B128-8BDA-424A-934B-B1C7AEC7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D16-7934-4786-BE53-C73E1F9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FCD1-1862-4C75-A565-E32EC4C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395-A311-4574-995E-81EF060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D82-C2DA-403D-9E6D-6AA58E4D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534-8910-4F1E-847B-BB84B142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3B9E-853E-41CB-AD53-55875539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A9B-82B4-48D4-8BAC-164D3C1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A5F-1122-41F4-96B8-7474BA80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FF2-3E24-41B5-B61A-A50BFFD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9B2-0BDF-4881-AE82-769B36A0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026-D16F-41E2-A04D-D53EA62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C13-98E5-4B92-BCCC-4E83E7F6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31A-A419-42AB-97B0-34D6095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936-49AD-46D6-A08E-8BB2583B0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4C1-6A9B-4122-AC1D-396A6DC24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slpro.com/cgi-bin/aslpro/aslpro.cgi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ocabulary Slideshow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IDE your desk over adjacent to your part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tch the picture provided with the CH 11 vocabulary that it symbol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Times New Roman"/>
              </a:rPr>
              <a:t>RETALIATE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– to take revenge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verb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 Latin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7029"/>
                </a:solidFill>
                <a:uFillTx/>
                <a:latin typeface="Times New Roman"/>
              </a:rPr>
              <a:t>BLATAN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very obvious, unmistakable</a:t>
            </a:r>
            <a:br>
              <a:rPr sz="3200"/>
            </a:br>
            <a:r>
              <a:rPr b="1" lang="en-US" sz="3200" spc="-1" strike="noStrike">
                <a:solidFill>
                  <a:srgbClr val="ff7029"/>
                </a:solidFill>
                <a:latin typeface="Times New Roman"/>
              </a:rPr>
              <a:t>adject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Lati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84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33412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127960" y="38088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U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very thin, skin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69404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1670040" y="152280"/>
            <a:ext cx="538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R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mixed up, jumb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he point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og_cheating_cat_school_test_hg_clr"/>
          <p:cNvPicPr/>
          <p:nvPr/>
        </p:nvPicPr>
        <p:blipFill>
          <a:blip r:embed="rId1"/>
          <a:stretch/>
        </p:blipFill>
        <p:spPr>
          <a:xfrm>
            <a:off x="1981080" y="14479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56000" y="533520"/>
            <a:ext cx="81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GIA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TEALING OTHERS’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00800" cy="5168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2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46120" y="6172200"/>
            <a:ext cx="76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K, SORRY FOR POOPING ON YOUR B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517760" y="228600"/>
            <a:ext cx="57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AL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guilty feeling, rem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1760" y="45720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LO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OVERLY SELF- CONFIDENT, BO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447920" y="3504960"/>
            <a:ext cx="1295280" cy="75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LIGH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omething that harms, hurts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 Old English</a:t>
            </a:r>
            <a:br>
              <a:rPr sz="3200"/>
            </a:b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aslprhttp://www.aslpro.com/cgi-bin/aslpro/aslpro.cgio.com/cgi-bin/aslpro/aslpro.cgi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Times New Roman"/>
              </a:rPr>
              <a:t>CONTR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to think up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verb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Middle English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7029"/>
                </a:solidFill>
                <a:uFillTx/>
                <a:latin typeface="Times New Roman"/>
              </a:rPr>
              <a:t>IMMACULAT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potless, super clean</a:t>
            </a:r>
            <a:br>
              <a:rPr sz="3200"/>
            </a:br>
            <a:r>
              <a:rPr b="1" lang="en-US" sz="3200" spc="-1" strike="noStrike">
                <a:solidFill>
                  <a:srgbClr val="ff7029"/>
                </a:solidFill>
                <a:latin typeface="Times New Roman"/>
              </a:rPr>
              <a:t>adject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Latin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199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8:36Z</dcterms:created>
  <dc:creator>El Cajon Valley High School</dc:creator>
  <dc:description/>
  <dc:language>en-US</dc:language>
  <cp:lastModifiedBy>mcdx62</cp:lastModifiedBy>
  <dcterms:modified xsi:type="dcterms:W3CDTF">2012-04-16T01:34:45Z</dcterms:modified>
  <cp:revision>13</cp:revision>
  <dc:subject/>
  <dc:title>Vocabulary Slidesh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K3R6gWpIbPK-uq3VHH6oXMWJeIsnAMOXEE2hLfNW7Hc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1701334897530444926</vt:lpwstr>
  </property>
  <property fmtid="{D5CDD505-2E9C-101B-9397-08002B2CF9AE}" pid="6" name="Google.Documents.Tracking">
    <vt:lpwstr>false</vt:lpwstr>
  </property>
</Properties>
</file>